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F32-058D-44A5-8797-4E697A86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063-32B2-4AD1-85D5-2691216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24E7-2D41-4722-BC32-2092B511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B6A2E-E16E-40B2-8AC1-1339AA39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BE32F-EBA3-4420-870B-187E12A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D7FC5-9A8A-412D-9C3F-1EF6930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670B9-5508-4A91-8237-4290D6E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1635F-C827-4179-94DD-4A4C834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23897-BA06-4417-BA00-BFA3B92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C2F43-952A-4058-BC42-F7207E4E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E012C-DE49-424D-A4B3-1A2E09DA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6DEFF-7092-43A7-901E-901375B1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A49-3E9E-49B7-AC84-56E732F1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2C50E-A37A-4CFA-81BC-463015F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062BE-8C9D-4DAA-BF00-FDB9620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0CC21-3667-43D7-9C56-79CA160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F4D4D-ACE8-447C-A77E-A623A041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CA8FA-1239-4EBD-91B1-1ABE23D4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D569E-EA36-4765-AF2C-993D5504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E794C-DA69-40F0-9206-4E7FC11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BC74A-E427-45A8-A148-C05123EF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60543-E7BB-40DB-BDC2-580DC7C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2CCF5-E357-4B24-8CB6-ACB5F247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D55-6DB9-4328-A88D-DD3D5468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5576A-2ECE-420C-A154-A890CA56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10755-2FF8-4EE9-9D4F-2A9F54B0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D04E8-7090-4107-907C-BD42B3D0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A39EC-07B9-4338-99ED-23B9D896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4B240-91D1-45B6-AEF1-E22255F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161A2-00C4-449A-ADDD-DB49F16B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2540-FF92-4DCA-9AC7-9CDB5208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B68C6-D3C5-4114-BACC-B0632C7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67938-9750-42C3-93A2-C58ACD2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B26EC-B7E2-4E48-BA28-FAAEC25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B5D4-4A47-4AED-9EF2-B07E51BD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EC9A4-16A5-4998-8E4E-4601BC31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B411-FD1A-4C41-A923-9C615916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72AF7-6917-401A-B4CA-3165D1C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3136F-DB2D-46FE-807C-19CEEF51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4AC5D-2875-4FD9-8EBB-087016BA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EAEFF-FDF0-46C1-B37B-D777C058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E1C4E-5A97-48AE-9ABC-4EDD81A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73FB1-6BB2-4E4D-989E-D33FB0F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50AFF-3A28-4881-A32A-69AA3EE7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23D82-1FDB-4CD1-9B12-D6403B7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D0C4-5C99-4A91-BD4D-94D4EFCC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C7D5B-FB00-4596-BDF7-1604C86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86721-A070-4F28-B22C-CCD4BDB5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28890-0516-48A3-BB04-89A5D34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CBEDB-F5CE-40B2-A2BD-93C2A479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F6DE3-E60A-49C2-9CD5-F99DE5C4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5C3A-1BA8-4649-9E08-1721F08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9308-D47B-4D1D-8F21-E03E4E0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F72C-AF73-451E-8B98-7B6CA95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248-298D-41F9-BFD1-53775CB9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27E0-C6B8-4445-9D32-51904B2B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17D-6356-45C8-9DBB-CEE88649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314-7A4C-434A-943E-4293365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E9E8-7477-4516-93E6-178C2426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BF8E-02EA-45A9-8ABC-5D62541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2573-F4C6-430D-B833-2A3A14EB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28F1-5860-4E7C-98D8-4811D75C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6AD0-4908-45B2-B1A3-D85403FE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A97C-D975-4A29-8CAB-04E379EA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ADDA-FB3B-49D5-A7F0-E503D0E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88A9-2DF1-428F-BCFC-156F8FA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54AE-9D38-4180-BA9B-460A6C34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652-C33F-4542-8458-66D15443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02A7-DF80-4502-8BA2-FE3A3814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CD7F-E594-41AB-A6CE-91A3DDB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6C9A-97CD-4F07-BCA6-B6A6ACA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606F-1D25-41E7-9888-5C89EA9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8D50-A557-4FEF-A86E-921728F9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D5A8-A1C2-4DAC-A931-C1C4536C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777F-B6CA-4798-88CF-4850CBCD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BD49-77A2-4B4B-A1BB-55185340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1125-2989-4E82-AAB3-32B1E26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F53C-2A8A-4EB4-BEEF-0BB46BE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32C-A511-4842-A74D-80213F1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66AF-55F4-49B8-9E81-DAC6F3C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6C39-3AE3-46A2-A268-9C56F89F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61C8-543E-4917-8697-8139EF6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FD6B-9D04-44EE-A462-E117DA3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42B7-52CB-42E6-B5B6-6312B3A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3A92-7EEF-4470-8CA0-74DECE7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3F8E-1F3C-4E12-9C22-55F33564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D85B-8C85-4EA1-9C77-EAC3692F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DDC7-FD21-4EE3-8789-63ABBC0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24C7-42C1-4225-8B3B-12F0BE1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8F0-DF9D-4EA3-AC90-06791CF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BA54-68E6-4080-815C-595B419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3D2F-C029-49F2-BF52-40053A7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7836-52F5-47AD-B584-EDE0E3D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5B9D8-105A-47CF-B688-7592986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4B4C-925E-43CE-8687-7715F1E2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F5A8-D27D-41C3-ADA3-BDBAEBA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6464-879D-4C25-AA81-01D0BD3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BD3D-4890-4795-A379-ABF6001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C3B6-F322-46D7-8F5B-D051EB6B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3533-61AB-473D-9F01-D566E1A0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625-558A-4BCE-8753-F2ABDAD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39F0-6331-4AFF-9C16-E226A622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5B83-7668-4D2F-BD53-2BA8983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F6FA-A86B-4C0D-86AC-33142E7A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C59A-027E-43CE-93B7-C6C680A2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B8A2-C6A0-4308-805B-46C44E5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925C-177D-4C7E-A577-CF40435B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F61A-0082-4076-8663-FD33BCC5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E13A0-C437-4E0E-9101-B784FB0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109D1-26D8-4FA1-85D3-7698678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C77B-AC95-4E43-96BB-C8DBD8F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4DE-AA65-446A-A8A2-49532525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AB98B-3A21-4F20-89B8-8A48720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70744-2FD3-43DD-BCF4-47B80104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82DC2-5D9D-490D-A527-5EA8FCCC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651F-4CE3-44B7-982F-289E3CA0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1EF43-E4CC-4E36-A2B5-AA59568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D2DB-84E2-4455-9F71-C8396741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567F-2201-4753-AC82-E002B490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33120-5C9B-4CB5-9FDD-FEC0342C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3DC4-6C33-4E60-B96B-DC26D8D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7C94-EFAF-4A6D-BDB6-CADAC60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55A-13D4-4844-A061-DBF6CDD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275F5-0643-4DFB-9AE9-B6CC34E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8410-FDF5-444E-BA60-EF1800CA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6C852-1C8E-4D32-AA90-879BD552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EF5E-FC30-4256-A769-8983EC5B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B0F01-52A5-4249-9EBD-4530867C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6E6FA-328B-48D2-ABE9-4DE10D03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A05C-1183-4859-BC43-2C1B7CC5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9F924-F260-4EE7-871B-73424F12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A4EE-340F-4019-AC1F-0E06492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FDC4-E86B-43E4-A3CD-8BC9361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A84-CBF0-4028-8406-4751DC6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5828-A6EB-4E4A-9B43-A4DC1C61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893DA-B8E5-43A7-8326-DAC720B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86EA-03FD-406F-AF2D-02F336B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568A-430B-43B8-A2E3-EC1F601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322B4-05A3-4453-A3B1-8646513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F6F2-C2E0-445E-A45C-7494E12C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F8FE-A561-49FC-ABCA-D8F87D1A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D2278-3DAE-4F69-90C1-1B69F763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B88E4-54EC-4FC9-8FB7-63121BC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8A04F-81C1-4C03-A5E2-6393CEB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9C5-25A2-4735-BC0D-5E1C2593AD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6D4-695B-48EB-ABE8-8D142E70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EF2-059F-49BC-9B7B-90D5473DEF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DBD2-7499-48DA-AB79-200F5B049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797-E557-4E31-91DA-AEA4297313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8C57-38E4-40E6-B285-7269585A3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07E-E230-4D07-A4BF-C66AA6F1DC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112F-8EA1-4F96-A93A-6CB8891B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94A-3B2F-4BB8-B7DC-0553F1813F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B693-1DED-4732-B528-56CEF8B8C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EB6-CFB5-4C36-9EF1-F7E89881FE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F5D6-2315-4908-AA74-9A5E09D6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ABAD-2AB7-4B48-90D7-32FBFD3A94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D842-F558-4F8D-8603-286D41DB1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F48A-9E00-4017-A3F5-9B15CB2EF1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56D-85F0-40BC-B1B6-DFA10AF6B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4792-1EBC-480B-B809-B8DF29F8E8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B9C2-C8DD-47F8-AFCA-758038F63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93D-F339-4E03-ACF0-0951C94C64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B58E-4C0B-49CA-BEA5-E04E884D9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480-363B-44AE-96E1-2C12C31186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F31-99BD-4DD5-A29A-5779F344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B7E0-F210-418A-828D-C686FF4968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93AC-A6B4-41E4-AF60-A22FCABCF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b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miting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ouds are made of this form of wa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iquid wa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imals get carbon by doing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Eating other organism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ts take this out of the air and use it and sunlight for photosynthes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arbon dioxide is produced by animals during this proces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arbon dioxide is used up during this process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this stage of the water cycle water vapor turns into liquid water to form a clou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Phytoplankton live in the ocean and take carbon dioxide out of the air to use in this proces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imals use this gas up during cellular respiratio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Plants produce this gas during photosynthesi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Phytoplankton produce this gas during photosynthesis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Oxygen is used up by animals during this process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xygen is produced by plants during this proces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an plants and animals take nitrogen gas out of the air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nimals get nitrogen by doing this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Eating other organism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ts get nitrogen from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e soil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is organism can take nitrogen gas out of the air and convert it into usable nitrog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cteri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this stage of the water cycle water turns from a liquid to a g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305280" indent="-3052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process where nitrogen is converted from nitrogen gas into usable nitrogen is called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itrogen fix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All the zeebra living in a certain area make up thi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Nonliving things are classified as this type of factor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Abiotic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Living (or recently living) things are classified as this type of factor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ioti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-3258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e amount of fish in a pond would be considered this type of factor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Biotic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e amount of rain an area receives would be classified as this type of fact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biotic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this stage of the water cycle, water falls from the sk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 algn="ctr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 this stage of the water cycle water evaporates from pla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Transpiration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0:40:34Z</dcterms:created>
  <dc:creator>Eleanor M. Savko</dc:creator>
  <dc:description/>
  <dc:language>en-US</dc:language>
  <cp:lastModifiedBy>Caroline Roth</cp:lastModifiedBy>
  <dcterms:modified xsi:type="dcterms:W3CDTF">2010-10-05T11:08:40Z</dcterms:modified>
  <cp:revision>54</cp:revision>
  <dc:subject/>
  <dc:title>Blank Jeopardy</dc:title>
</cp:coreProperties>
</file>